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E96-D66F-4F00-811C-2E76E6E1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1AC-D914-4B3A-A85F-28167E6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9D2-D0AC-44ED-8255-746CF8B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FE0-501D-4B82-8E68-78A0E121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5A4-2D11-47DA-A48B-79B54F87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B0F-56B6-4419-9425-0D54F119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E99-5E7A-42C6-8715-73BF6C3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2DE-DDA6-4991-88F5-1FB3D1D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2FB-6E14-410E-8B5B-F4D36CC6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43C-93A0-43C2-8BE2-3EEFDC7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505-1B60-4278-B1AB-4BBB93F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FE3-FF75-4500-9026-F8672BE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49F0-8086-4743-B8F9-A6516D977A2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4296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الضفدع الصغ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tl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449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823120"/>
            <a:ext cx="6019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ايمكن أن يصل أي ضفدع الى القمه لأن البرج عاااااااااااااااااااالي جدا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ne can reach to the peak of the tower; It is tooooooooooo hig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apo5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1600200" cy="9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22840" y="3168720"/>
            <a:ext cx="714096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وبدأت الضفادع تسقط من الإعياء واحد تلو الأخر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rogs start falling down of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3044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 </a:t>
            </a:r>
            <a:r>
              <a:rPr b="1" lang="ar-QA" sz="2400" spc="-1" strike="noStrike">
                <a:solidFill>
                  <a:srgbClr val="0000ff"/>
                </a:solidFill>
                <a:latin typeface="Arial"/>
                <a:cs typeface="Times New Roman"/>
              </a:rPr>
              <a:t>ما عدا تلك الضفادع المتحمسة وبالمليئة بالنشا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xcept: exited and enthusiastic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apos2" descr=""/>
          <p:cNvPicPr/>
          <p:nvPr/>
        </p:nvPicPr>
        <p:blipFill>
          <a:blip r:embed="rId1"/>
          <a:stretch/>
        </p:blipFill>
        <p:spPr>
          <a:xfrm>
            <a:off x="1676520" y="34131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108" name="sapos2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09" name="sapos2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10" name="sapos2" descr=""/>
          <p:cNvPicPr/>
          <p:nvPr/>
        </p:nvPicPr>
        <p:blipFill>
          <a:blip r:embed="rId4"/>
          <a:stretch/>
        </p:blipFill>
        <p:spPr>
          <a:xfrm>
            <a:off x="5105520" y="3492360"/>
            <a:ext cx="761760" cy="631800"/>
          </a:xfrm>
          <a:prstGeom prst="rect">
            <a:avLst/>
          </a:prstGeom>
          <a:ln w="0">
            <a:noFill/>
          </a:ln>
        </p:spPr>
      </p:pic>
      <p:pic>
        <p:nvPicPr>
          <p:cNvPr id="111" name="sapos2" descr=""/>
          <p:cNvPicPr/>
          <p:nvPr/>
        </p:nvPicPr>
        <p:blipFill>
          <a:blip r:embed="rId5"/>
          <a:stretch/>
        </p:blipFill>
        <p:spPr>
          <a:xfrm>
            <a:off x="6858000" y="3429000"/>
            <a:ext cx="83808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418400"/>
            <a:ext cx="487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انه صعب جدا.. لن يستطيع أحد أن يصل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very hard … No one can reach up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apos3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sapos3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sapos3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68200" y="612720"/>
            <a:ext cx="32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دأت الحشود تصر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cks start sh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3920" y="3019680"/>
            <a:ext cx="668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ستمر سقوط المزيد من الضفادع الصغيره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gs were fal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31840" y="13417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ما عدا ضفدع واحد استمر في الصعود  الى القمه ..أعلى وأعلى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one frog who continues climbing up an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095640"/>
            <a:ext cx="6094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585080"/>
            <a:ext cx="6705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لم يتخلى عن اصراره ابدا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did not give up …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60948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81952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ي النهاية سقطت كل الضفادع ما عدا صديقنا الضفدع الصغيرالذي نجح ووصل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, all frogs have fallen down except our little frog who reach to the peak of the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0076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التالي ارادت كل  الضفادع التعرف على هذا الضفدع ومعرفة :كيف استطاع أن يصل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liked to know this little frog more and how could he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3040" y="1934640"/>
            <a:ext cx="8636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كل سأل : من أين اتى هذا الضفدع الصغييييييييييير بالقوة لوصول أعلى البرج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ask: how this little frog had this power and strength to climb this very long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apo9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1828800" cy="146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40" y="353556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3244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كان هناك مجموعة ضفادع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group of little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71960" y="287424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apos2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12392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7040" y="1341720"/>
            <a:ext cx="456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قررت القيام بمسابقة للجري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decided to go f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apos2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sapos2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sapos2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sapos2" descr=""/>
          <p:cNvPicPr/>
          <p:nvPr/>
        </p:nvPicPr>
        <p:blipFill>
          <a:blip r:embed="rId5"/>
          <a:stretch/>
        </p:blipFill>
        <p:spPr>
          <a:xfrm>
            <a:off x="1752480" y="30481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1" name="sapos2" descr=""/>
          <p:cNvPicPr/>
          <p:nvPr/>
        </p:nvPicPr>
        <p:blipFill>
          <a:blip r:embed="rId6"/>
          <a:stretch/>
        </p:blipFill>
        <p:spPr>
          <a:xfrm>
            <a:off x="563868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sapos2" descr=""/>
          <p:cNvPicPr/>
          <p:nvPr/>
        </p:nvPicPr>
        <p:blipFill>
          <a:blip r:embed="rId7"/>
          <a:stretch/>
        </p:blipFill>
        <p:spPr>
          <a:xfrm>
            <a:off x="182880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sapos2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9"/>
          <a:stretch/>
        </p:blipFill>
        <p:spPr>
          <a:xfrm>
            <a:off x="4114800" y="52578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10"/>
          <a:stretch/>
        </p:blipFill>
        <p:spPr>
          <a:xfrm>
            <a:off x="7238880" y="2590920"/>
            <a:ext cx="112392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1880" y="2728080"/>
            <a:ext cx="739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ندها الكل اكتشف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y discovered the secret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28240" y="2437920"/>
            <a:ext cx="356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ضفدع الفائز كان</a:t>
            </a: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Little frog w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apo10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1228680" cy="108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9560" y="1371600"/>
            <a:ext cx="362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cs typeface="Arial"/>
              </a:rPr>
              <a:t>أصـــــــــم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eaf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5176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الحك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wis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apo1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70480" y="326088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74320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99cc00"/>
                </a:solidFill>
                <a:latin typeface="Arial"/>
                <a:cs typeface="Arial"/>
              </a:rPr>
              <a:t>لا تصغي ابدا ....الى ميول الآخرين السلبيه والتشاؤمية</a:t>
            </a:r>
            <a:r>
              <a:rPr b="0" lang="ar-QA" sz="4000" spc="-1" strike="noStrike">
                <a:solidFill>
                  <a:srgbClr val="99cc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Do not lis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to discourages or dep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651400"/>
            <a:ext cx="822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لأنهم يسلبوك ....أحلامك الجميلة وآمالك التي تحتفظ بها في قلب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y kill your hopes and dream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3383640"/>
            <a:ext cx="72388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لأن كل ما تسمع أو تقرأ يؤثر على افعالك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everything you read or hear may affect you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752480"/>
            <a:ext cx="731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دااااااااااااااااائما فكر.....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في قوة تأثير الكلمات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ways Think … how strong words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38720" y="2437560"/>
            <a:ext cx="2204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لذلك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28920" y="455400"/>
            <a:ext cx="85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humb up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2544480"/>
            <a:ext cx="3352680" cy="23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ar-QA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ا</a:t>
            </a:r>
            <a:r>
              <a:rPr b="1" i="1" lang="ar-QA" sz="40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يج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apita flor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94240" y="1905120"/>
            <a:ext cx="204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وق ذل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over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1241280" cy="70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46368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تحدي كان الوصول الى أعلى قمة برج</a:t>
            </a:r>
            <a:r>
              <a:rPr b="1" lang="ar-Q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The challenge: who can reach to the top of a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orre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6032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634840"/>
            <a:ext cx="799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ff3300"/>
                </a:solidFill>
                <a:latin typeface="Arial"/>
                <a:cs typeface="Arial"/>
              </a:rPr>
              <a:t>كن ...أصم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! عندما يقول لك أحدهم : انك لا تستطيع أن تحقق </a:t>
            </a:r>
            <a:r>
              <a:rPr b="1" lang="ar-QA" sz="2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أحلام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Be deaf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someone tell you that you can not accomplish what your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84600" y="2711880"/>
            <a:ext cx="3573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أنا استطيع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ca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ودائما قل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486400"/>
            <a:ext cx="6248160" cy="36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3276720"/>
            <a:ext cx="7086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ho are reluctant to climb mountains will live in the holes for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bo Al Qasim Al Sh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066680"/>
            <a:ext cx="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5715000" cy="35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5181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581280"/>
            <a:ext cx="69339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do things that you think you can not d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7324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جمعت الحشود من الضفادع  لمشاهدة السباق والتشجي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ther frogs attended the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apos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0" name="sapos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sapos3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2" name="sapos3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sapos3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64" name="sapos3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65" name="sapos3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6" name="sapos3" descr=""/>
          <p:cNvPicPr/>
          <p:nvPr/>
        </p:nvPicPr>
        <p:blipFill>
          <a:blip r:embed="rId8"/>
          <a:stretch/>
        </p:blipFill>
        <p:spPr>
          <a:xfrm>
            <a:off x="1752480" y="40384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sapos3" descr=""/>
          <p:cNvPicPr/>
          <p:nvPr/>
        </p:nvPicPr>
        <p:blipFill>
          <a:blip r:embed="rId9"/>
          <a:stretch/>
        </p:blipFill>
        <p:spPr>
          <a:xfrm>
            <a:off x="3048120" y="2514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8" name="sapos3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sapos3" descr=""/>
          <p:cNvPicPr/>
          <p:nvPr/>
        </p:nvPicPr>
        <p:blipFill>
          <a:blip r:embed="rId11"/>
          <a:stretch/>
        </p:blipFill>
        <p:spPr>
          <a:xfrm>
            <a:off x="5867280" y="2286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sapos3" descr=""/>
          <p:cNvPicPr/>
          <p:nvPr/>
        </p:nvPicPr>
        <p:blipFill>
          <a:blip r:embed="rId12"/>
          <a:stretch/>
        </p:blipFill>
        <p:spPr>
          <a:xfrm>
            <a:off x="3886200" y="4572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1" name="sapos3" descr=""/>
          <p:cNvPicPr/>
          <p:nvPr/>
        </p:nvPicPr>
        <p:blipFill>
          <a:blip r:embed="rId13"/>
          <a:stretch/>
        </p:blipFill>
        <p:spPr>
          <a:xfrm>
            <a:off x="4876920" y="16002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sapos3" descr=""/>
          <p:cNvPicPr/>
          <p:nvPr/>
        </p:nvPicPr>
        <p:blipFill>
          <a:blip r:embed="rId14"/>
          <a:stretch/>
        </p:blipFill>
        <p:spPr>
          <a:xfrm>
            <a:off x="5029200" y="49528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sapos3" descr=""/>
          <p:cNvPicPr/>
          <p:nvPr/>
        </p:nvPicPr>
        <p:blipFill>
          <a:blip r:embed="rId15"/>
          <a:stretch/>
        </p:blipFill>
        <p:spPr>
          <a:xfrm>
            <a:off x="2971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4" name="sapos3" descr=""/>
          <p:cNvPicPr/>
          <p:nvPr/>
        </p:nvPicPr>
        <p:blipFill>
          <a:blip r:embed="rId16"/>
          <a:stretch/>
        </p:blipFill>
        <p:spPr>
          <a:xfrm>
            <a:off x="6324480" y="1447920"/>
            <a:ext cx="955800" cy="955440"/>
          </a:xfrm>
          <a:prstGeom prst="rect">
            <a:avLst/>
          </a:prstGeom>
          <a:ln w="0">
            <a:noFill/>
          </a:ln>
        </p:spPr>
      </p:pic>
      <p:pic>
        <p:nvPicPr>
          <p:cNvPr id="75" name="sapos3" descr=""/>
          <p:cNvPicPr/>
          <p:nvPr/>
        </p:nvPicPr>
        <p:blipFill>
          <a:blip r:embed="rId17"/>
          <a:stretch/>
        </p:blipFill>
        <p:spPr>
          <a:xfrm>
            <a:off x="5867280" y="3200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6" name="sapos3" descr=""/>
          <p:cNvPicPr/>
          <p:nvPr/>
        </p:nvPicPr>
        <p:blipFill>
          <a:blip r:embed="rId18"/>
          <a:stretch/>
        </p:blipFill>
        <p:spPr>
          <a:xfrm>
            <a:off x="3886200" y="55627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7" name="sapos3" descr=""/>
          <p:cNvPicPr/>
          <p:nvPr/>
        </p:nvPicPr>
        <p:blipFill>
          <a:blip r:embed="rId19"/>
          <a:stretch/>
        </p:blipFill>
        <p:spPr>
          <a:xfrm>
            <a:off x="4495680" y="25909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8" name="sapos3" descr=""/>
          <p:cNvPicPr/>
          <p:nvPr/>
        </p:nvPicPr>
        <p:blipFill>
          <a:blip r:embed="rId20"/>
          <a:stretch/>
        </p:blipFill>
        <p:spPr>
          <a:xfrm>
            <a:off x="6705720" y="2819520"/>
            <a:ext cx="118404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sapos3" descr=""/>
          <p:cNvPicPr/>
          <p:nvPr/>
        </p:nvPicPr>
        <p:blipFill>
          <a:blip r:embed="rId21"/>
          <a:stretch/>
        </p:blipFill>
        <p:spPr>
          <a:xfrm>
            <a:off x="6629400" y="48006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0" name="sapos3" descr=""/>
          <p:cNvPicPr/>
          <p:nvPr/>
        </p:nvPicPr>
        <p:blipFill>
          <a:blip r:embed="rId22"/>
          <a:stretch/>
        </p:blipFill>
        <p:spPr>
          <a:xfrm>
            <a:off x="2057400" y="16002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1" name="sapos3" descr=""/>
          <p:cNvPicPr/>
          <p:nvPr/>
        </p:nvPicPr>
        <p:blipFill>
          <a:blip r:embed="rId23"/>
          <a:stretch/>
        </p:blipFill>
        <p:spPr>
          <a:xfrm>
            <a:off x="7162920" y="19051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2" name="sapos3" descr=""/>
          <p:cNvPicPr/>
          <p:nvPr/>
        </p:nvPicPr>
        <p:blipFill>
          <a:blip r:embed="rId24"/>
          <a:stretch/>
        </p:blipFill>
        <p:spPr>
          <a:xfrm>
            <a:off x="6934320" y="38862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3" name="sapos3" descr=""/>
          <p:cNvPicPr/>
          <p:nvPr/>
        </p:nvPicPr>
        <p:blipFill>
          <a:blip r:embed="rId25"/>
          <a:stretch/>
        </p:blipFill>
        <p:spPr>
          <a:xfrm>
            <a:off x="1981080" y="29718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84" name="sapos3" descr=""/>
          <p:cNvPicPr/>
          <p:nvPr/>
        </p:nvPicPr>
        <p:blipFill>
          <a:blip r:embed="rId26"/>
          <a:stretch/>
        </p:blipFill>
        <p:spPr>
          <a:xfrm>
            <a:off x="990720" y="2590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816120"/>
            <a:ext cx="7010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بدأ السباق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race was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apos2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sapos2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88" name="sapos2" descr=""/>
          <p:cNvPicPr/>
          <p:nvPr/>
        </p:nvPicPr>
        <p:blipFill>
          <a:blip r:embed="rId3"/>
          <a:stretch/>
        </p:blipFill>
        <p:spPr>
          <a:xfrm>
            <a:off x="6248520" y="384336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89" name="sapos2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sapos2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533160" cy="443160"/>
          </a:xfrm>
          <a:prstGeom prst="rect">
            <a:avLst/>
          </a:prstGeom>
          <a:ln w="0">
            <a:noFill/>
          </a:ln>
        </p:spPr>
      </p:pic>
      <p:pic>
        <p:nvPicPr>
          <p:cNvPr id="91" name="sapos2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sapos2" descr=""/>
          <p:cNvPicPr/>
          <p:nvPr/>
        </p:nvPicPr>
        <p:blipFill>
          <a:blip r:embed="rId7"/>
          <a:stretch/>
        </p:blipFill>
        <p:spPr>
          <a:xfrm>
            <a:off x="3886200" y="407196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93" name="sapos2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76212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sapos2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95" name="sapos2" descr=""/>
          <p:cNvPicPr/>
          <p:nvPr/>
        </p:nvPicPr>
        <p:blipFill>
          <a:blip r:embed="rId10"/>
          <a:stretch/>
        </p:blipFill>
        <p:spPr>
          <a:xfrm>
            <a:off x="1371600" y="3886200"/>
            <a:ext cx="685800" cy="56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369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367800"/>
            <a:ext cx="6327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م يصدق الحضور أن أحدا من هذه الضفادع الصغيرة ستستطيع أن تحقق التحدي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rogs from the public (viewers) could believe that any of those little frog can go for this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وبأمااااااااااانه</a:t>
            </a:r>
            <a:r>
              <a:rPr b="1" lang="ar-Q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nes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2253600"/>
            <a:ext cx="5333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أن تصل الى قمة البرج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win the race and climb 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800" y="2484720"/>
            <a:ext cx="7767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كل ما تسمعه من الحشود هو: مستحيل ..... مستح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viewers were saying: impossible …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2731320"/>
            <a:ext cx="17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1:53:03Z</dcterms:created>
  <dc:creator>intex</dc:creator>
  <dc:description/>
  <dc:language>en-US</dc:language>
  <cp:lastModifiedBy>Helals</cp:lastModifiedBy>
  <dcterms:modified xsi:type="dcterms:W3CDTF">2008-01-05T16:57:25Z</dcterms:modified>
  <cp:revision>56</cp:revision>
  <dc:subject/>
  <dc:title>Slide 1</dc:title>
</cp:coreProperties>
</file>