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ECB-43A6-48C2-BCA5-E5BD2FE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24A-2664-413F-8C5A-3AC14E66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C90-44E0-43D4-B8E4-E49882C3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DA0-FAE1-48B5-AC9F-61517D68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9D3-732A-420E-A8AB-8555F8A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22D-B92A-4CD6-BA55-130C4ED3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357-8FC1-4479-9ABB-73CAB65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44C-7FD2-41F2-BF29-C2B5A9FA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450-CAEE-4FF5-A478-86611B0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D3B-F163-4318-9DA3-FCC20DD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0D2-39A7-4AFC-8946-3757B59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75D-E368-47BF-9A9C-9BC5203B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62E1-DF17-4450-A90E-155C88ABEEC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429696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الضفدع الصغ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tle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244944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2823120"/>
            <a:ext cx="6019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ايمكن أن يصل أي ضفدع الى القمه لأن البرج عاااااااااااااااااااالي جدا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ne can reach to the peak of the tower; It is tooooooooooo hig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apo5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1600200" cy="98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22840" y="3168720"/>
            <a:ext cx="7140960" cy="12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وبدأت الضفادع تسقط من الإعياء واحد تلو الأخر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frogs start falling down of t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73044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 </a:t>
            </a:r>
            <a:r>
              <a:rPr b="1" lang="ar-QA" sz="2400" spc="-1" strike="noStrike">
                <a:solidFill>
                  <a:srgbClr val="0000ff"/>
                </a:solidFill>
                <a:latin typeface="Arial"/>
                <a:cs typeface="Times New Roman"/>
              </a:rPr>
              <a:t>ما عدا تلك الضفادع المتحمسة وبالمليئة بالنشا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xcept: exited and enthusiastic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apos2" descr=""/>
          <p:cNvPicPr/>
          <p:nvPr/>
        </p:nvPicPr>
        <p:blipFill>
          <a:blip r:embed="rId1"/>
          <a:stretch/>
        </p:blipFill>
        <p:spPr>
          <a:xfrm>
            <a:off x="1676520" y="341316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108" name="sapos2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109" name="sapos2" descr=""/>
          <p:cNvPicPr/>
          <p:nvPr/>
        </p:nvPicPr>
        <p:blipFill>
          <a:blip r:embed="rId3"/>
          <a:stretch/>
        </p:blipFill>
        <p:spPr>
          <a:xfrm>
            <a:off x="3962520" y="34290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10" name="sapos2" descr=""/>
          <p:cNvPicPr/>
          <p:nvPr/>
        </p:nvPicPr>
        <p:blipFill>
          <a:blip r:embed="rId4"/>
          <a:stretch/>
        </p:blipFill>
        <p:spPr>
          <a:xfrm>
            <a:off x="5105520" y="3492360"/>
            <a:ext cx="761760" cy="631800"/>
          </a:xfrm>
          <a:prstGeom prst="rect">
            <a:avLst/>
          </a:prstGeom>
          <a:ln w="0">
            <a:noFill/>
          </a:ln>
        </p:spPr>
      </p:pic>
      <p:pic>
        <p:nvPicPr>
          <p:cNvPr id="111" name="sapos2" descr=""/>
          <p:cNvPicPr/>
          <p:nvPr/>
        </p:nvPicPr>
        <p:blipFill>
          <a:blip r:embed="rId5"/>
          <a:stretch/>
        </p:blipFill>
        <p:spPr>
          <a:xfrm>
            <a:off x="6858000" y="3429000"/>
            <a:ext cx="83808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418400"/>
            <a:ext cx="4876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انه صعب جدا.. لن يستطيع أحد أن يصل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very hard … No one can reach up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apos3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sapos3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sapos3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68200" y="612720"/>
            <a:ext cx="32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دأت الحشود تصر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cks start sh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3920" y="3019680"/>
            <a:ext cx="668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ستمر سقوط المزيد من الضفادع الصغيره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ogs were fall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231840" y="1341720"/>
            <a:ext cx="96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ما عدا ضفدع واحد استمر في الصعود  الى القمه ..أعلى وأعلى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one frog who continues climbing up an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095640"/>
            <a:ext cx="60948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5280" y="1585080"/>
            <a:ext cx="6705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لم يتخلى عن اصراره ابدا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did not give up …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60948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81952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ي النهاية سقطت كل الضفادع ما عدا صديقنا الضفدع الصغيرالذي نجح ووصل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end, all frogs have fallen down except our little frog who reach to the peak of the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00764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التالي ارادت كل  الضفادع التعرف على هذا الضفدع ومعرفة :كيف استطاع أن يصل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liked to know this little frog more and how could he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3040" y="1934640"/>
            <a:ext cx="8636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كل سأل : من أين اتى هذا الضفدع الصغييييييييييير بالقوة لوصول أعلى البرج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ask: how this little frog had this power and strength to climb this very long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sapo9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1828800" cy="146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840" y="353556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532440"/>
            <a:ext cx="6934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كان هناك مجموعة ضفادع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group of little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71960" y="2874240"/>
            <a:ext cx="206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apos2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1123920" cy="932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7040" y="1341720"/>
            <a:ext cx="456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قررت القيام بمسابقة للجري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decided to go fo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apos2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8" name="sapos2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sapos2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sapos2" descr=""/>
          <p:cNvPicPr/>
          <p:nvPr/>
        </p:nvPicPr>
        <p:blipFill>
          <a:blip r:embed="rId5"/>
          <a:stretch/>
        </p:blipFill>
        <p:spPr>
          <a:xfrm>
            <a:off x="1752480" y="30481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1" name="sapos2" descr=""/>
          <p:cNvPicPr/>
          <p:nvPr/>
        </p:nvPicPr>
        <p:blipFill>
          <a:blip r:embed="rId6"/>
          <a:stretch/>
        </p:blipFill>
        <p:spPr>
          <a:xfrm>
            <a:off x="563868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2" name="sapos2" descr=""/>
          <p:cNvPicPr/>
          <p:nvPr/>
        </p:nvPicPr>
        <p:blipFill>
          <a:blip r:embed="rId7"/>
          <a:stretch/>
        </p:blipFill>
        <p:spPr>
          <a:xfrm>
            <a:off x="182880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3" name="sapos2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4" name="sapos2" descr=""/>
          <p:cNvPicPr/>
          <p:nvPr/>
        </p:nvPicPr>
        <p:blipFill>
          <a:blip r:embed="rId9"/>
          <a:stretch/>
        </p:blipFill>
        <p:spPr>
          <a:xfrm>
            <a:off x="4114800" y="52578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5" name="sapos2" descr=""/>
          <p:cNvPicPr/>
          <p:nvPr/>
        </p:nvPicPr>
        <p:blipFill>
          <a:blip r:embed="rId10"/>
          <a:stretch/>
        </p:blipFill>
        <p:spPr>
          <a:xfrm>
            <a:off x="7238880" y="2590920"/>
            <a:ext cx="112392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21880" y="2728080"/>
            <a:ext cx="7398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عندها الكل اكتشف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y discovered the secret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28240" y="2437920"/>
            <a:ext cx="356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الضفدع الفائز كان</a:t>
            </a: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Little frog wa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apo10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1228680" cy="1086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9560" y="1371600"/>
            <a:ext cx="362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cs typeface="Arial"/>
              </a:rPr>
              <a:t>أصـــــــــم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eaf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517680"/>
            <a:ext cx="556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الحك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wis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apo11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70480" y="326088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743200"/>
            <a:ext cx="58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99cc00"/>
                </a:solidFill>
                <a:latin typeface="Arial"/>
                <a:cs typeface="Arial"/>
              </a:rPr>
              <a:t>لا تصغي ابدا ....الى ميول الآخرين السلبيه والتشاؤمية</a:t>
            </a:r>
            <a:r>
              <a:rPr b="0" lang="ar-QA" sz="4000" spc="-1" strike="noStrike">
                <a:solidFill>
                  <a:srgbClr val="99cc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Do not lis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to discourages or dep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651400"/>
            <a:ext cx="8229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لأنهم يسلبوك ....أحلامك الجميلة وآمالك التي تحتفظ بها في قلب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y kill your hopes and dreams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3383640"/>
            <a:ext cx="723888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لأن كل ما تسمع أو تقرأ يؤثر على افعالك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ause everything you read or hear may affect you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752480"/>
            <a:ext cx="7315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دااااااااااااااااائما فكر.....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في قوة تأثير الكلمات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ways Think … how strong words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38720" y="2437560"/>
            <a:ext cx="2204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لذلك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...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…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28920" y="455400"/>
            <a:ext cx="857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ك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humb up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19520" y="2544480"/>
            <a:ext cx="3352680" cy="231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" sz="1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br>
              <a:rPr sz="1000"/>
            </a:br>
            <a:br>
              <a:rPr sz="1000"/>
            </a:br>
            <a:r>
              <a:rPr b="1" i="1" lang="ar-QA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ا</a:t>
            </a:r>
            <a:r>
              <a:rPr b="1" i="1" lang="ar-QA" sz="40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يجا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apita flor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66672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594240" y="1905120"/>
            <a:ext cx="204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وق ذل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over 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1241280" cy="70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463680"/>
            <a:ext cx="78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80"/>
                </a:solidFill>
                <a:latin typeface="Arial"/>
                <a:cs typeface="Times New Roman"/>
              </a:rPr>
              <a:t>التحدي كان الوصول الى أعلى قمة برج</a:t>
            </a:r>
            <a:r>
              <a:rPr b="1" lang="ar-Q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The challenge: who can reach to the top of a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orre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60320" cy="4167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2634840"/>
            <a:ext cx="799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ff3300"/>
                </a:solidFill>
                <a:latin typeface="Arial"/>
                <a:cs typeface="Arial"/>
              </a:rPr>
              <a:t>كن ...أصم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! عندما يقول لك أحدهم : انك لا تستطيع أن تحقق </a:t>
            </a:r>
            <a:r>
              <a:rPr b="1" lang="ar-QA" sz="2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أحلام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Be deaf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someone tell you that you can not accomplish what your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84600" y="2711880"/>
            <a:ext cx="3573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أنا استطيع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ca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ودائما قل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way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5486400"/>
            <a:ext cx="6248160" cy="36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3276720"/>
            <a:ext cx="70866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who are reluctant to climb mountains will live in the holes for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bo Al Qasim Al Sh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0" y="1066680"/>
            <a:ext cx="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5181480"/>
            <a:ext cx="5715000" cy="352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0200" y="51814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581280"/>
            <a:ext cx="69339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ould do things that you think you can not d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273240"/>
            <a:ext cx="7772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جمعت الحشود من الضفادع  لمشاهدة السباق والتشجي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ther frogs attended the con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apos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0" name="sapos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sapos3" descr=""/>
          <p:cNvPicPr/>
          <p:nvPr/>
        </p:nvPicPr>
        <p:blipFill>
          <a:blip r:embed="rId3"/>
          <a:stretch/>
        </p:blipFill>
        <p:spPr>
          <a:xfrm>
            <a:off x="1905120" y="54864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62" name="sapos3" descr=""/>
          <p:cNvPicPr/>
          <p:nvPr/>
        </p:nvPicPr>
        <p:blipFill>
          <a:blip r:embed="rId4"/>
          <a:stretch/>
        </p:blipFill>
        <p:spPr>
          <a:xfrm>
            <a:off x="3276720" y="358128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sapos3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64" name="sapos3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65" name="sapos3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6" name="sapos3" descr=""/>
          <p:cNvPicPr/>
          <p:nvPr/>
        </p:nvPicPr>
        <p:blipFill>
          <a:blip r:embed="rId8"/>
          <a:stretch/>
        </p:blipFill>
        <p:spPr>
          <a:xfrm>
            <a:off x="1752480" y="40384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sapos3" descr=""/>
          <p:cNvPicPr/>
          <p:nvPr/>
        </p:nvPicPr>
        <p:blipFill>
          <a:blip r:embed="rId9"/>
          <a:stretch/>
        </p:blipFill>
        <p:spPr>
          <a:xfrm>
            <a:off x="3048120" y="2514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8" name="sapos3" descr=""/>
          <p:cNvPicPr/>
          <p:nvPr/>
        </p:nvPicPr>
        <p:blipFill>
          <a:blip r:embed="rId10"/>
          <a:stretch/>
        </p:blipFill>
        <p:spPr>
          <a:xfrm>
            <a:off x="5715000" y="42670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9" name="sapos3" descr=""/>
          <p:cNvPicPr/>
          <p:nvPr/>
        </p:nvPicPr>
        <p:blipFill>
          <a:blip r:embed="rId11"/>
          <a:stretch/>
        </p:blipFill>
        <p:spPr>
          <a:xfrm>
            <a:off x="5867280" y="2286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0" name="sapos3" descr=""/>
          <p:cNvPicPr/>
          <p:nvPr/>
        </p:nvPicPr>
        <p:blipFill>
          <a:blip r:embed="rId12"/>
          <a:stretch/>
        </p:blipFill>
        <p:spPr>
          <a:xfrm>
            <a:off x="3886200" y="4572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1" name="sapos3" descr=""/>
          <p:cNvPicPr/>
          <p:nvPr/>
        </p:nvPicPr>
        <p:blipFill>
          <a:blip r:embed="rId13"/>
          <a:stretch/>
        </p:blipFill>
        <p:spPr>
          <a:xfrm>
            <a:off x="4876920" y="160020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72" name="sapos3" descr=""/>
          <p:cNvPicPr/>
          <p:nvPr/>
        </p:nvPicPr>
        <p:blipFill>
          <a:blip r:embed="rId14"/>
          <a:stretch/>
        </p:blipFill>
        <p:spPr>
          <a:xfrm>
            <a:off x="5029200" y="49528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3" name="sapos3" descr=""/>
          <p:cNvPicPr/>
          <p:nvPr/>
        </p:nvPicPr>
        <p:blipFill>
          <a:blip r:embed="rId15"/>
          <a:stretch/>
        </p:blipFill>
        <p:spPr>
          <a:xfrm>
            <a:off x="2971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4" name="sapos3" descr=""/>
          <p:cNvPicPr/>
          <p:nvPr/>
        </p:nvPicPr>
        <p:blipFill>
          <a:blip r:embed="rId16"/>
          <a:stretch/>
        </p:blipFill>
        <p:spPr>
          <a:xfrm>
            <a:off x="6324480" y="1447920"/>
            <a:ext cx="955800" cy="955440"/>
          </a:xfrm>
          <a:prstGeom prst="rect">
            <a:avLst/>
          </a:prstGeom>
          <a:ln w="0">
            <a:noFill/>
          </a:ln>
        </p:spPr>
      </p:pic>
      <p:pic>
        <p:nvPicPr>
          <p:cNvPr id="75" name="sapos3" descr=""/>
          <p:cNvPicPr/>
          <p:nvPr/>
        </p:nvPicPr>
        <p:blipFill>
          <a:blip r:embed="rId17"/>
          <a:stretch/>
        </p:blipFill>
        <p:spPr>
          <a:xfrm>
            <a:off x="5867280" y="3200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6" name="sapos3" descr=""/>
          <p:cNvPicPr/>
          <p:nvPr/>
        </p:nvPicPr>
        <p:blipFill>
          <a:blip r:embed="rId18"/>
          <a:stretch/>
        </p:blipFill>
        <p:spPr>
          <a:xfrm>
            <a:off x="3886200" y="55627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7" name="sapos3" descr=""/>
          <p:cNvPicPr/>
          <p:nvPr/>
        </p:nvPicPr>
        <p:blipFill>
          <a:blip r:embed="rId19"/>
          <a:stretch/>
        </p:blipFill>
        <p:spPr>
          <a:xfrm>
            <a:off x="4495680" y="25909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8" name="sapos3" descr=""/>
          <p:cNvPicPr/>
          <p:nvPr/>
        </p:nvPicPr>
        <p:blipFill>
          <a:blip r:embed="rId20"/>
          <a:stretch/>
        </p:blipFill>
        <p:spPr>
          <a:xfrm>
            <a:off x="6705720" y="2819520"/>
            <a:ext cx="1184040" cy="1184040"/>
          </a:xfrm>
          <a:prstGeom prst="rect">
            <a:avLst/>
          </a:prstGeom>
          <a:ln w="0">
            <a:noFill/>
          </a:ln>
        </p:spPr>
      </p:pic>
      <p:pic>
        <p:nvPicPr>
          <p:cNvPr id="79" name="sapos3" descr=""/>
          <p:cNvPicPr/>
          <p:nvPr/>
        </p:nvPicPr>
        <p:blipFill>
          <a:blip r:embed="rId21"/>
          <a:stretch/>
        </p:blipFill>
        <p:spPr>
          <a:xfrm>
            <a:off x="6629400" y="48006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0" name="sapos3" descr=""/>
          <p:cNvPicPr/>
          <p:nvPr/>
        </p:nvPicPr>
        <p:blipFill>
          <a:blip r:embed="rId22"/>
          <a:stretch/>
        </p:blipFill>
        <p:spPr>
          <a:xfrm>
            <a:off x="2057400" y="16002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1" name="sapos3" descr=""/>
          <p:cNvPicPr/>
          <p:nvPr/>
        </p:nvPicPr>
        <p:blipFill>
          <a:blip r:embed="rId23"/>
          <a:stretch/>
        </p:blipFill>
        <p:spPr>
          <a:xfrm>
            <a:off x="7162920" y="190512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2" name="sapos3" descr=""/>
          <p:cNvPicPr/>
          <p:nvPr/>
        </p:nvPicPr>
        <p:blipFill>
          <a:blip r:embed="rId24"/>
          <a:stretch/>
        </p:blipFill>
        <p:spPr>
          <a:xfrm>
            <a:off x="6934320" y="38862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3" name="sapos3" descr=""/>
          <p:cNvPicPr/>
          <p:nvPr/>
        </p:nvPicPr>
        <p:blipFill>
          <a:blip r:embed="rId25"/>
          <a:stretch/>
        </p:blipFill>
        <p:spPr>
          <a:xfrm>
            <a:off x="1981080" y="29718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84" name="sapos3" descr=""/>
          <p:cNvPicPr/>
          <p:nvPr/>
        </p:nvPicPr>
        <p:blipFill>
          <a:blip r:embed="rId26"/>
          <a:stretch/>
        </p:blipFill>
        <p:spPr>
          <a:xfrm>
            <a:off x="990720" y="2590920"/>
            <a:ext cx="1031760" cy="103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816120"/>
            <a:ext cx="7010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بدأ السباق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race was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apos2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sapos2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88" name="sapos2" descr=""/>
          <p:cNvPicPr/>
          <p:nvPr/>
        </p:nvPicPr>
        <p:blipFill>
          <a:blip r:embed="rId3"/>
          <a:stretch/>
        </p:blipFill>
        <p:spPr>
          <a:xfrm>
            <a:off x="6248520" y="384336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89" name="sapos2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sapos2" descr=""/>
          <p:cNvPicPr/>
          <p:nvPr/>
        </p:nvPicPr>
        <p:blipFill>
          <a:blip r:embed="rId5"/>
          <a:stretch/>
        </p:blipFill>
        <p:spPr>
          <a:xfrm>
            <a:off x="4876920" y="4267080"/>
            <a:ext cx="533160" cy="443160"/>
          </a:xfrm>
          <a:prstGeom prst="rect">
            <a:avLst/>
          </a:prstGeom>
          <a:ln w="0">
            <a:noFill/>
          </a:ln>
        </p:spPr>
      </p:pic>
      <p:pic>
        <p:nvPicPr>
          <p:cNvPr id="91" name="sapos2" descr=""/>
          <p:cNvPicPr/>
          <p:nvPr/>
        </p:nvPicPr>
        <p:blipFill>
          <a:blip r:embed="rId6"/>
          <a:stretch/>
        </p:blipFill>
        <p:spPr>
          <a:xfrm>
            <a:off x="4572000" y="380988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92" name="sapos2" descr=""/>
          <p:cNvPicPr/>
          <p:nvPr/>
        </p:nvPicPr>
        <p:blipFill>
          <a:blip r:embed="rId7"/>
          <a:stretch/>
        </p:blipFill>
        <p:spPr>
          <a:xfrm>
            <a:off x="3886200" y="407196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93" name="sapos2" descr=""/>
          <p:cNvPicPr/>
          <p:nvPr/>
        </p:nvPicPr>
        <p:blipFill>
          <a:blip r:embed="rId8"/>
          <a:stretch/>
        </p:blipFill>
        <p:spPr>
          <a:xfrm>
            <a:off x="2971800" y="3809880"/>
            <a:ext cx="762120" cy="631800"/>
          </a:xfrm>
          <a:prstGeom prst="rect">
            <a:avLst/>
          </a:prstGeom>
          <a:ln w="0">
            <a:noFill/>
          </a:ln>
        </p:spPr>
      </p:pic>
      <p:pic>
        <p:nvPicPr>
          <p:cNvPr id="94" name="sapos2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95" name="sapos2" descr=""/>
          <p:cNvPicPr/>
          <p:nvPr/>
        </p:nvPicPr>
        <p:blipFill>
          <a:blip r:embed="rId10"/>
          <a:stretch/>
        </p:blipFill>
        <p:spPr>
          <a:xfrm>
            <a:off x="1371600" y="3886200"/>
            <a:ext cx="685800" cy="56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369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367800"/>
            <a:ext cx="6327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م يصدق الحضور أن أحدا من هذه الضفادع الصغيرة ستستطيع أن تحقق التحدي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rogs from the public (viewers) could believe that any of those little frog can go for this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وبأمااااااااااانه</a:t>
            </a:r>
            <a:r>
              <a:rPr b="1" lang="ar-Q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nes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2253600"/>
            <a:ext cx="53337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أن تصل الى قمة البرج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win the race and climb th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0800" y="2484720"/>
            <a:ext cx="7767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كل ما تسمعه من الحشود هو: مستحيل ..... مستح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viewers were saying: impossible …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2731320"/>
            <a:ext cx="174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1:53:03Z</dcterms:created>
  <dc:creator>intex</dc:creator>
  <dc:description/>
  <dc:language>en-US</dc:language>
  <cp:lastModifiedBy>Helals</cp:lastModifiedBy>
  <dcterms:modified xsi:type="dcterms:W3CDTF">2008-01-05T16:57:25Z</dcterms:modified>
  <cp:revision>56</cp:revision>
  <dc:subject/>
  <dc:title>Slide 1</dc:title>
</cp:coreProperties>
</file>